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A797-2136-4E54-9BAB-2DB82957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BAF-F25B-4251-928A-A39CEE0F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0A4-426B-44EE-94DB-ED6A88E4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F7D-7C17-4C13-A303-30C34ABE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FDD-7109-42D3-9B7D-E7FA7FFA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1D2-BB34-46DC-BCBE-D7F458D5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1DC-3459-4189-BEC9-B9AFC6BE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BA4-9854-4897-AAE3-F8817EFE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D4C-94F9-4C95-9C4C-4F419A97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2FE-E6EE-4EE9-A6E1-8493CC9C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C03-28F0-461E-871E-678E9EBB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F2D9-82BC-456F-B51F-54F56723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D6DC-BCBF-4805-B073-2D0F7BF35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1676160" cy="99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648320"/>
            <a:ext cx="1067040" cy="99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76520"/>
            <a:ext cx="1067040" cy="990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666880"/>
            <a:ext cx="106704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65760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5960" y="565632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638680"/>
            <a:ext cx="106668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563868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5638680"/>
            <a:ext cx="106704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5638680"/>
            <a:ext cx="106668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4648320"/>
            <a:ext cx="106668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3657600"/>
            <a:ext cx="106668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266688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676520"/>
            <a:ext cx="106668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68580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685800"/>
            <a:ext cx="106668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685800"/>
            <a:ext cx="106704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685800"/>
            <a:ext cx="10666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68320" y="2660760"/>
            <a:ext cx="3014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iger Math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324480" y="2895480"/>
            <a:ext cx="2819520" cy="1600200"/>
            <a:chOff x="6324480" y="2895480"/>
            <a:chExt cx="2819520" cy="1600200"/>
          </a:xfrm>
        </p:grpSpPr>
        <p:sp>
          <p:nvSpPr>
            <p:cNvPr id="61" name=""/>
            <p:cNvSpPr/>
            <p:nvPr/>
          </p:nvSpPr>
          <p:spPr>
            <a:xfrm>
              <a:off x="6400800" y="3200040"/>
              <a:ext cx="2590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am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24480" y="2895480"/>
              <a:ext cx="281952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8839080" y="892080"/>
            <a:ext cx="914400" cy="60984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5960" y="2738520"/>
            <a:ext cx="1020600" cy="844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92360" y="5694480"/>
            <a:ext cx="1020600" cy="84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93720" y="4695840"/>
            <a:ext cx="922320" cy="884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841920" y="5694480"/>
            <a:ext cx="1020600" cy="844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917960" y="4735440"/>
            <a:ext cx="1020960" cy="844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917960" y="2738520"/>
            <a:ext cx="1020960" cy="844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4879800" y="817560"/>
            <a:ext cx="1020960" cy="844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7029360" y="741240"/>
            <a:ext cx="1020960" cy="844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2036880" y="3889440"/>
            <a:ext cx="26496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06668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3657600"/>
            <a:ext cx="1067040" cy="990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685800"/>
            <a:ext cx="106704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1676520"/>
            <a:ext cx="106704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666880"/>
            <a:ext cx="10670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648320"/>
            <a:ext cx="1067040" cy="99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563868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5638680"/>
            <a:ext cx="106668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63868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5638680"/>
            <a:ext cx="106704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4648320"/>
            <a:ext cx="106704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3657600"/>
            <a:ext cx="1067040" cy="990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666880"/>
            <a:ext cx="106704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1676520"/>
            <a:ext cx="106704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685800"/>
            <a:ext cx="106704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68580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685800"/>
            <a:ext cx="106668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685800"/>
            <a:ext cx="10670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3657600"/>
            <a:ext cx="167616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2666880"/>
            <a:ext cx="106704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1676520"/>
            <a:ext cx="1067040" cy="990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2666880"/>
            <a:ext cx="1066680" cy="990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666880"/>
            <a:ext cx="106668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28954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28954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10800" y="4849920"/>
            <a:ext cx="1187280" cy="1447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-457200" y="89856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779400"/>
            <a:ext cx="1020600" cy="844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076400" y="2738520"/>
            <a:ext cx="1020600" cy="84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116000" y="4735440"/>
            <a:ext cx="1020600" cy="84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190600" y="5694480"/>
            <a:ext cx="1020960" cy="84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303800" y="5694480"/>
            <a:ext cx="1020600" cy="84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4264200" y="3736800"/>
            <a:ext cx="1020600" cy="84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4264200" y="1739880"/>
            <a:ext cx="1020600" cy="84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5378400" y="779400"/>
            <a:ext cx="1020960" cy="84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7529400" y="779400"/>
            <a:ext cx="1020960" cy="84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7491240" y="2698920"/>
            <a:ext cx="1020960" cy="84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>
            <a:off x="7107120" y="4465800"/>
            <a:ext cx="18147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02:40:31Z</dcterms:created>
  <dc:creator>Connie Campbell</dc:creator>
  <dc:description/>
  <dc:language>en-US</dc:language>
  <cp:lastModifiedBy>Kathy</cp:lastModifiedBy>
  <dcterms:modified xsi:type="dcterms:W3CDTF">2010-02-07T03:20:27Z</dcterms:modified>
  <cp:revision>7</cp:revision>
  <dc:subject/>
  <dc:title>Slide 1</dc:title>
</cp:coreProperties>
</file>